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6C5-D223-4F8F-BBD0-5B7E7A37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9F1-EE14-4D99-AF87-FFE71370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60D-1C9A-4720-89A6-CE47AFF0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CCB-0672-4F42-8163-11996493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FA04-CEA5-4EB7-9B69-EA5D15FB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9F8F-2218-43D1-9002-2CF92CF2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3E6D-45AF-4FA9-A53B-3A0FEA04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0D6D-48F0-4016-BE0A-73F3BE3B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907A-29B0-4529-8BD5-86F408A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8BBB-EBD2-4DF4-B856-C3A5C268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BD5A-22BE-4626-BA0C-94859B1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E9D-292E-4BC2-9A8B-52576354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B39D-313E-42B0-83D3-A1CF5CFE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B950-07EC-4885-894A-D9648C7A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D34D-ABD5-49B4-93A7-FB276129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4562-25D6-4C73-ACE7-C313E659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CFD5-90C8-4F51-858A-A5FD6F10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45B-FD8A-4B96-BC90-B78D6770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1FF-5FD3-4B6A-BFD2-AB2F63AB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216-443D-4613-90A3-9D849E5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CB4-ADC7-40D9-9EC4-B3EC01C4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555-9874-452C-B770-289145D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2E1-3547-45F9-85E4-A4A00EEA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E93-A582-4647-8F19-E95E7E8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4FC3-7A53-43D0-A60D-8435CCED1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D029-7A9F-4055-A38B-FE741066A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king Verb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Grade Grammar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king Verbs in the Presen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linking verb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is a verb that does not show action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verb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is a linking verb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verb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has special forms in the present tense. 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Am, is,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re the present tense linking verbs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I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am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happy.   Madison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my daughter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e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ar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 happy family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king Verbs in the Pa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verb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has special forms in the past tens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are forms of be that are used the past tens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wa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here yesterday.  They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were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re yesterday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king Verbs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n the Past and Presen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17760" y="2063880"/>
          <a:ext cx="7600680" cy="384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2063880"/>
                    <a:ext cx="760068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oose the Linking Verb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e _____________ having a good tim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I _________ in second grad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at ____________ a funny joke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ohn and Ty _____________ in my class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om ____________ at work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8:44:07Z</dcterms:created>
  <dc:creator>GCSD</dc:creator>
  <dc:description/>
  <dc:language>en-US</dc:language>
  <cp:lastModifiedBy>teacher</cp:lastModifiedBy>
  <cp:lastPrinted>2005-01-10T20:35:58Z</cp:lastPrinted>
  <dcterms:modified xsi:type="dcterms:W3CDTF">2010-12-06T02:48:29Z</dcterms:modified>
  <cp:revision>6</cp:revision>
  <dc:subject/>
  <dc:title>Linking Verbs</dc:title>
</cp:coreProperties>
</file>